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579-4644-4D74-99B0-6A8832A7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9DD-7A22-455C-A076-BDB7FC8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135-2758-4842-BDAC-6177ABD6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4E2-45AA-4F08-A0B2-B3D97A57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468B-0AB3-43B1-8FC3-B3683985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033-DCD9-4B01-B978-CF765690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26B3-A5CC-43DE-8B86-502C5F41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ABE2-7C73-4396-8E5C-09D7B733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341C-BA56-4BCD-A4AF-1B9FBEDD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64CF-8FFD-497C-BA20-D6B4D77B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DF96-33AF-48DE-9E64-8783270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077-FE3D-4C35-98B0-F888C161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6957-1DCF-4274-854F-09792C7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DA53-7151-45AB-BF3E-45E75EA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ABD9-717D-4E73-9C49-D9CE1AA4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49BF-7359-4C8B-BF6D-3FF36828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2EDA-9FED-4EA5-8F3F-C81900EA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354-2E8C-4EA2-AEFF-4DA0AF19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804-A99E-4F29-A585-DABE3481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D19-4CE8-4F71-9B84-F04974C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F2F-88A6-4329-92D8-7392D5F1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1B4-60C3-422D-8000-F1B1B59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E12-D8F1-4A29-8343-10F5502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73D-8F03-4A9A-AFA5-E03D94C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HL_PEARL_RGB_large.jpg"/>
          <p:cNvPicPr/>
          <p:nvPr/>
        </p:nvPicPr>
        <p:blipFill>
          <a:blip r:embed="rId2"/>
          <a:stretch/>
        </p:blipFill>
        <p:spPr>
          <a:xfrm>
            <a:off x="7848720" y="5535720"/>
            <a:ext cx="1066680" cy="1017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E5DD-4B99-4A8A-AA70-43DA41B2E70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084-E90A-4B0D-850C-39D6CD561F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teksti.jpg"/>
          <p:cNvPicPr/>
          <p:nvPr/>
        </p:nvPicPr>
        <p:blipFill>
          <a:blip r:embed="rId3"/>
          <a:stretch/>
        </p:blipFill>
        <p:spPr>
          <a:xfrm>
            <a:off x="417600" y="6215040"/>
            <a:ext cx="28749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8" descr="PPT_kansilogo.jpg"/>
          <p:cNvPicPr/>
          <p:nvPr/>
        </p:nvPicPr>
        <p:blipFill>
          <a:blip r:embed="rId2"/>
          <a:stretch/>
        </p:blipFill>
        <p:spPr>
          <a:xfrm>
            <a:off x="1600200" y="533520"/>
            <a:ext cx="612936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C30C-11BB-4940-973B-3A2F138EFA4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822-9DFE-451B-BB6F-B6A458A4F2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officair-project.eu/" TargetMode="External"/><Relationship Id="rId3" Type="http://schemas.openxmlformats.org/officeDocument/2006/relationships/hyperlink" Target="http://fi.opasnet.org/fi/Officair_Suomi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atti.peltonen@thl.fi" TargetMode="External"/><Relationship Id="rId2" Type="http://schemas.openxmlformats.org/officeDocument/2006/relationships/hyperlink" Target="http://fi.opasnet.org/fi/Officair_Suomi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fficair-survey.eu/index.php?sid=34779&amp;lang=fi" TargetMode="External"/><Relationship Id="rId2" Type="http://schemas.openxmlformats.org/officeDocument/2006/relationships/hyperlink" Target="http://officair-survey.eu/index.php?sid=34779&amp;lang=fi" TargetMode="External"/><Relationship Id="rId3" Type="http://schemas.openxmlformats.org/officeDocument/2006/relationships/hyperlink" Target="http://officair-survey.eu/index.php?sid=34779&amp;lang=fi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979640" y="3645000"/>
            <a:ext cx="51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n the reduction of health effects from combined exposure to indoor pollutants in Modern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Calibri"/>
                <a:hlinkClick r:id="rId2"/>
              </a:rPr>
              <a:t>http://www.officair-project.eu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Calibri"/>
                <a:hlinkClick r:id="rId3"/>
              </a:rPr>
              <a:t>http://fi.opasnet.org/fi/Officair_Su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Serena\Documents\P 2010 OFFICAIR\2011 Protocol\Questionnaire\PPT invito\eu-flag.gif"/>
          <p:cNvPicPr/>
          <p:nvPr/>
        </p:nvPicPr>
        <p:blipFill>
          <a:blip r:embed="rId4"/>
          <a:stretch/>
        </p:blipFill>
        <p:spPr>
          <a:xfrm>
            <a:off x="1692360" y="333360"/>
            <a:ext cx="1036440" cy="6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Serena\Documents\P 2010 OFFICAIR\2011 Protocol\Questionnaire\PPT invito\fp7-small_en.gif"/>
          <p:cNvPicPr/>
          <p:nvPr/>
        </p:nvPicPr>
        <p:blipFill>
          <a:blip r:embed="rId5"/>
          <a:stretch/>
        </p:blipFill>
        <p:spPr>
          <a:xfrm>
            <a:off x="6084720" y="333360"/>
            <a:ext cx="878040" cy="801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5084640"/>
            <a:ext cx="820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fficair- tutkimusryhm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tti Peltonen, Otto Hänninen, Arja Asika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59B-E312-42BA-B1F3-B6A69A8CB8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5AC9E-3F84-4231-BF55-7555DACAFB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yselyn tallen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19600" y="2473200"/>
            <a:ext cx="4392360" cy="351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149720"/>
            <a:ext cx="1152720" cy="2160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771640" y="1773360"/>
            <a:ext cx="1944720" cy="2303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240" y="13604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 haluat jatkaa vastaamista myöhemmin, kyselyn voit tallentaa painamalla sivun alareunassa oleva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tka myöhem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painik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65300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iltä pyydetään tallennukselle nimi, salasana sekä sähköpostiosoite, jotta voimme jakaa teille keskenjääneen kyselyn sähköpostii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4076640"/>
            <a:ext cx="2016000" cy="10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64000" y="4869000"/>
            <a:ext cx="165564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91040" y="58910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lennuksen jälkeen teille lähetetään sähköpostiin linkki, jonka avaamalla voitte jatkaa kyselyn täyttämist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8AD-AA3F-4115-A1CD-A0611F5606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235A8-10D8-4BEB-AD83-1DC4B5294E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yselyn lähettä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976720" cy="477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87800" y="4597560"/>
            <a:ext cx="576000" cy="215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708360" y="2349360"/>
            <a:ext cx="2592360" cy="2232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413000"/>
            <a:ext cx="22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äytetty kysely lähetetään viimeisellä sivulla olevas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ähet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painikke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800440"/>
            <a:ext cx="576360" cy="287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508720" y="2276640"/>
            <a:ext cx="792000" cy="57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0720" y="2924280"/>
            <a:ext cx="269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kista ennen kyselyn lähettämistä, näkyykö jokin kyselyn osio keltaisella sivun oikean yläreunan hakemistos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 jokin osio on keltaisella, tarkoittaa se että et ole vastannut yhteen tai useampaan osion kysymyk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81F-4A66-4425-B60F-DC2FD73654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E32E3-D618-4E0F-8E9D-5515E1BCC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hdään yhdessä!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KIMUKSEN ONNISTUMINEN ON KIINNI MEISTÄ KAIKIS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yttäjäkyselystä tulee sitä kattavampi että luotettavampi, mitä enemmän saamme vastauksia rakennuksestanne. Toivomme siis, että jokainen rakennuksentyöntekijä vastaisi kysely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rveyttä ja viihtyvyyttä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tti Peltonen, 020 61064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matti.peltonen@thl.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http://fi.opasnet.org/fi/Officair_Su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527-C5F5-4007-8104-D2AAA8E81B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B5C9A-D227-4E3F-BBC9-A11ADCACCF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Johdant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fficair on EU:n tutkimuksen 7. puiteohjelman rahoittama hanke, jossa kartoitetaan Euroopan laajuisesti modernien toimistorakennuksien sisäilmaa, sen yhteyttä terveyte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arkoituksena tutkimuksessa on löytää tekijät, jotka saavat meidät tuntemaan rakennuksen terveelliseksi ja miellyttäväksi käyttä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tkimus koostu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- Käyttäjäkysely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- Rakennuskatselmukses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1CB-FE65-4302-AB51-22ECB31082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91615-CB29-42B0-BB95-D53AB6D212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utkimuksessa mukan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95" name="Picture 2" descr="C:\Users\Serena\Documents\P 2010 OFFICAIR\2011 Protocol\Questionnaire\PPT invito\universitaInterno.jpg"/>
          <p:cNvPicPr/>
          <p:nvPr/>
        </p:nvPicPr>
        <p:blipFill>
          <a:blip r:embed="rId1"/>
          <a:stretch/>
        </p:blipFill>
        <p:spPr>
          <a:xfrm>
            <a:off x="4037040" y="5862600"/>
            <a:ext cx="1295280" cy="44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Serena\Documents\P 2010 OFFICAIR\2011 Protocol\Questionnaire\PPT invito\logo-TNO.gif"/>
          <p:cNvPicPr/>
          <p:nvPr/>
        </p:nvPicPr>
        <p:blipFill>
          <a:blip r:embed="rId2"/>
          <a:stretch/>
        </p:blipFill>
        <p:spPr>
          <a:xfrm>
            <a:off x="1157400" y="5935680"/>
            <a:ext cx="1592280" cy="28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Users\Serena\Documents\P 2010 OFFICAIR\2011 Protocol\Questionnaire\PPT invito\THL_logo.jpg"/>
          <p:cNvPicPr/>
          <p:nvPr/>
        </p:nvPicPr>
        <p:blipFill>
          <a:blip r:embed="rId3"/>
          <a:stretch/>
        </p:blipFill>
        <p:spPr>
          <a:xfrm>
            <a:off x="1476360" y="3357720"/>
            <a:ext cx="5616720" cy="1001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Serena\Documents\P 2010 OFFICAIR\2011 Protocol\Questionnaire\PPT invito\cstb.jpg"/>
          <p:cNvPicPr/>
          <p:nvPr/>
        </p:nvPicPr>
        <p:blipFill>
          <a:blip r:embed="rId4"/>
          <a:stretch/>
        </p:blipFill>
        <p:spPr>
          <a:xfrm>
            <a:off x="6342120" y="4854600"/>
            <a:ext cx="958680" cy="3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Users\Serena\Documents\P 2010 OFFICAIR\2011 Protocol\Questionnaire\PPT invito\elte.jpg"/>
          <p:cNvPicPr/>
          <p:nvPr/>
        </p:nvPicPr>
        <p:blipFill>
          <a:blip r:embed="rId5"/>
          <a:stretch/>
        </p:blipFill>
        <p:spPr>
          <a:xfrm>
            <a:off x="4037040" y="4711680"/>
            <a:ext cx="603360" cy="60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Serena\Documents\P 2010 OFFICAIR\2011 Protocol\Questionnaire\PPT invito\FEUP.jpg"/>
          <p:cNvPicPr/>
          <p:nvPr/>
        </p:nvPicPr>
        <p:blipFill>
          <a:blip r:embed="rId6"/>
          <a:srcRect l="0" t="0" r="0" b="50024"/>
          <a:stretch/>
        </p:blipFill>
        <p:spPr>
          <a:xfrm>
            <a:off x="1162080" y="4719600"/>
            <a:ext cx="121932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Serena\Documents\P 2010 OFFICAIR\2011 Protocol\Questionnaire\PPT invito\west macedonia.jpg"/>
          <p:cNvPicPr/>
          <p:nvPr/>
        </p:nvPicPr>
        <p:blipFill>
          <a:blip r:embed="rId7"/>
          <a:srcRect l="0" t="0" r="55579" b="15695"/>
          <a:stretch/>
        </p:blipFill>
        <p:spPr>
          <a:xfrm>
            <a:off x="6342120" y="5791320"/>
            <a:ext cx="1687320" cy="47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148428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kimus tullaan toteuttamaan kahdeksassa eri Euroopan maassa, mukana tutkimuksessa on useita yliopistoja ja tutkimuslaitoksia. Suomen osalta tutkimuksesta vastaa Terveyden ja hyvinvoinnin la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8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7AE-632F-4511-BF18-6B4ED53698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D3B45-1B7B-401B-A277-063EEDC0E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idän rakennuks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uomesta tutkimukseen on lähtenyt mukaan 21 toimistorakennusta, kahdeksasta eri kaupungista. Teidän rakennuksenne on yksi tutkimuksessa mukana olevista rakennuks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utkimukseen on valittu mukaan pääasiassa toimistorakennuksia, jotka esittävät viimeaikaisinta toimistorakentamista Suomes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4033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3F8-E121-41DE-8DC5-1D2A87C0A6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FEC67-4E54-4690-B5B3-F9DFCAF03A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äyttäjäkysely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Tutkimuksen online -käyttäjäkysely jaetaan jokaiselle rakennuksessa työskentelevälle sähköpostin välityksell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ähköpostista löytyvät yksityiskohtaisemmat tiedot tutkimuksesta, sekä linkki käyttäjäkyselyy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Kysely on nimetön, eikä se sisällä henkilön tunnistamiseen liittyviä tietoja. Osallistuminen kyselyyn on vapaaehtoin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just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B7F-D729-4F86-B439-83BB09027D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40C1E-DBD3-4471-A3F4-7E2ACF7EAC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äyttäjäkysely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uomioitavia asioi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yselylomake sulkeutuu 90 minuutin jälkeen kyselyn aloittamisesta tietosuojan varmistamiseksi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UISTAKAA TALLENTAA KYSELY, jos joudutte keskeyttämään kyselyn täyttämisen jostain syyst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Rakennuskoodi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, rakennuskohtainen tunnus joka teille on lähetetty käyttäjäkysely sähköpostin yhteydess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officair-survey.eu</a:t>
            </a: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3"/>
              </a:rPr>
              <a:t>/index.php?sid=34779&amp;lang=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AC1-AF77-4F8E-A746-7C8CFFF923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8DBF1-66DF-4BDC-8A84-1BF3ADC8AC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4032000" cy="3227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äyttäjäkyselyn aloitussiv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4032000" cy="310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1773360"/>
            <a:ext cx="3456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itussivulla kerrotaan tarkemmin käyttäjäkyselyst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ä kyselyssä tullaan kysymää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yselyn tarkoi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ottamuksellisu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F53-9D3A-4D89-8FE7-6A8EE4D040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E1582-1967-4281-BEF0-9D4AC74073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6048360" cy="484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äyttäjäkyselyn aloitussiv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013360"/>
            <a:ext cx="100800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564000" y="2565360"/>
            <a:ext cx="2663640" cy="2448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91280" y="1557360"/>
            <a:ext cx="295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itussivulta itse kyselyyn pääsee painamall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uraav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painiket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vun ylä- ja alareunassa olevista maiden lipuista voit tarvittaessa vaihtaa kyselyssä käytettävän kie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AF1-1EF1-4D52-AD43-962F864C64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4943E-725B-475D-AB81-0D9006C2BC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Rakennustunn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5976720" cy="478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 flipV="1">
            <a:off x="1979640" y="4221000"/>
            <a:ext cx="460836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1484280"/>
            <a:ext cx="2376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akennuskoodia kysyttäessä tulee kohtaan täyttää sähköpostissa saatu rakennustun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ÄMÄN RAKENNUKSEN TUNNU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3300"/>
                </a:solidFill>
                <a:latin typeface="Arial"/>
              </a:rPr>
              <a:t>FI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nnuksen syötettyä paina Seuraava –näppäintä, jolloin aukeaa varsinainen kys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2600" y="446868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3300"/>
                </a:solidFill>
                <a:latin typeface="Arial"/>
              </a:rPr>
              <a:t>FI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221000"/>
            <a:ext cx="1079640" cy="720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84480" y="4743360"/>
            <a:ext cx="863640" cy="360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4653000"/>
            <a:ext cx="107964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350028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927440" cy="12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fficair / Matti Peltonen, T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BEA-5B7B-475F-9CFF-CFCA77DCE1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87713-A476-4CE9-B571-DF9578A490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2:22:49Z</dcterms:created>
  <dc:creator>Stakes</dc:creator>
  <dc:description/>
  <dc:language>en-US</dc:language>
  <cp:lastModifiedBy>mpng</cp:lastModifiedBy>
  <dcterms:modified xsi:type="dcterms:W3CDTF">2011-11-28T10:21:28Z</dcterms:modified>
  <cp:revision>15</cp:revision>
  <dc:subject>suomi</dc:subject>
  <dc:title>Otsikko, Arial 34pt Bold</dc:title>
</cp:coreProperties>
</file>